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4B2-A64A-40A3-8A07-A2BEA13D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3EF-188C-4A1E-B661-7E70AABE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58B-133A-424A-9E7E-652B24B0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6E1-290A-4360-906F-BE348CB1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727F-E985-4160-B6C4-B9474762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F6FC-9D34-4835-A274-FEF16081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F6AE-74B1-4BD5-8C53-72E5B17E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D470-7692-441C-96DA-24799F41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57C7-CDAF-46FB-A5C9-2FE50721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97D5-C154-4CC1-B285-E905DBAB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84AA-1E39-48D8-8433-A62D96F4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ADD-1070-4D64-A434-597DFDF8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1820-CC21-493D-A7BE-F44E17C5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8AD9-2D3C-42D0-9D45-AE9C8DB9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56CE-55F2-4F6C-BA1C-3146A317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D0C8-83A0-4039-9130-5B5CA2A5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9A58-CAFE-456D-AF15-A442F4BD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77F-B059-47D0-B40A-2F2A06E7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A10-E4C2-40D8-9F96-9F9B789F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67E-A93E-4E2D-B661-2F6D9FA0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023-88F7-46C2-8551-D7E85E2A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617-10A9-4431-95F1-D0449BE1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97D-2430-4655-B074-5F9B5246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43C-9053-41CF-97C8-0361600D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6C72-0563-4D90-8B5A-390D8505B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5ACD-B386-4D0A-860C-0A031430A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vogeltanzova@pef.czu.cz" TargetMode="External"/><Relationship Id="rId2" Type="http://schemas.openxmlformats.org/officeDocument/2006/relationships/hyperlink" Target="mailto:vogeltanzova@pef.czu.cz" TargetMode="External"/><Relationship Id="rId3" Type="http://schemas.openxmlformats.org/officeDocument/2006/relationships/hyperlink" Target="mailto:vogeltanzova@pef.czu.cz" TargetMode="External"/><Relationship Id="rId4" Type="http://schemas.openxmlformats.org/officeDocument/2006/relationships/hyperlink" Target="mailto:vogeltanzova@pef.czu.cz" TargetMode="External"/><Relationship Id="rId5" Type="http://schemas.openxmlformats.org/officeDocument/2006/relationships/hyperlink" Target="mailto:vogeltanzova@pef.czu.cz" TargetMode="External"/><Relationship Id="rId6" Type="http://schemas.openxmlformats.org/officeDocument/2006/relationships/hyperlink" Target="mailto:vogeltanzova@pef.czu.cz" TargetMode="External"/><Relationship Id="rId7" Type="http://schemas.openxmlformats.org/officeDocument/2006/relationships/hyperlink" Target="mailto:vogeltanzova@pef.czu.cz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f.czu.cz/~vogeltanzova" TargetMode="External"/><Relationship Id="rId2" Type="http://schemas.openxmlformats.org/officeDocument/2006/relationships/hyperlink" Target="http://pef.czu.cz/~vogeltanzova" TargetMode="External"/><Relationship Id="rId3" Type="http://schemas.openxmlformats.org/officeDocument/2006/relationships/hyperlink" Target="http://pef.czu.cz/~vogeltanzova" TargetMode="External"/><Relationship Id="rId4" Type="http://schemas.openxmlformats.org/officeDocument/2006/relationships/hyperlink" Target="http://pef.czu.cz/~vogeltanzova" TargetMode="External"/><Relationship Id="rId5" Type="http://schemas.openxmlformats.org/officeDocument/2006/relationships/hyperlink" Target="http://pef.czu.cz/~vogeltanzova" TargetMode="External"/><Relationship Id="rId6" Type="http://schemas.openxmlformats.org/officeDocument/2006/relationships/hyperlink" Target="http://pef.czu.cz/~vogeltanzova" TargetMode="External"/><Relationship Id="rId7" Type="http://schemas.openxmlformats.org/officeDocument/2006/relationships/hyperlink" Target="http://pef.czu.cz/~vogeltanzova" TargetMode="External"/><Relationship Id="rId8" Type="http://schemas.openxmlformats.org/officeDocument/2006/relationships/hyperlink" Target="http://pef.czu.cz/~vogeltanzova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Informace pro studenty kombinovaneho studia AJ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EF, FLD, FŽ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20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r. Tereza Vogeltanz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  <a:ea typeface="Arial"/>
              </a:rPr>
              <a:t>Zápočtový t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zapomeňte, že od úrovně A2 je součástí testu kromě učebnice New Cutting Edge i specializační literatura (viz výš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zápočet 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70%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správných odpověd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!!!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hledem k tomu, že se jedná o test zápočtový, má student nárok na jeden termín řádný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e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pravný (nabídka opravných termínů bude k dispozici v Hrochu po termínu řádném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Děkuji za pozorno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Kontaktn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 informa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ncelář EA 204 v budově ARIT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onzultační hodiny – ZS 2008/2009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úterý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10:30 – 11:3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13:00 – 14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o předchozí dohodě mailem možno i jind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e-mail: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"/>
              </a:rPr>
              <a:t>vogeltanzova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/>
              </a:rPr>
              <a:t>@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3"/>
              </a:rPr>
              <a:t>pef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5"/>
              </a:rPr>
              <a:t>czu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6"/>
              </a:rPr>
              <a:t>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Webov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 str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n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/>
              </a:rPr>
              <a:t>pef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3"/>
              </a:rPr>
              <a:t>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/>
              </a:rPr>
              <a:t>czu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5"/>
              </a:rPr>
              <a:t>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6"/>
              </a:rPr>
              <a:t>cz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/~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8"/>
              </a:rPr>
              <a:t>vogeltanzova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odkaz KOMBINOVANÉ STUDIUM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soustředě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všechny aktuální informa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ohledně výuky AJ v kombinované formě (včetně termínů testů, náhradních termínů, zápisu do indexu apod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Uznání předmětu Cizí jazy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zinárodní certifiká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átní jazyková zkouš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počet či zkouška z jiné V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znání provádí výhradně zástupkyně vedoucí katedr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hDr. Lenka Kučírková v konzultačních hodinách do konce lednového blok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Ú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4:15 – 15: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3:00 – 14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udete potřebovat předlož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ádost o uznání předmětu (formulář stud.od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pie certifikátu, vysvědčení ap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  <a:ea typeface="Arial"/>
              </a:rPr>
              <a:t>Studijní materiá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UTTING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1 -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UTTING E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 - NEW CUTTING E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 NEW CUTTING E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 NEW CUTTING E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-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1428840" cy="2038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238880" y="4343400"/>
            <a:ext cx="1428840" cy="204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086600" y="1981080"/>
            <a:ext cx="1428840" cy="2038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486400" y="4572000"/>
            <a:ext cx="14288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UTTING ED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Zimn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 semest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 – unit 1-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 – unit 1-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– unit 1-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– unit 1-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ní semes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 – unit 7-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 – unit 7-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– unit 7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– unit 7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Studijn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 materiál – specializační </a:t>
            </a: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mní semest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st English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t I +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st English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t II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 P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st English 4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t I + I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 F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B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st Englis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t V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 P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st English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t I + I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 F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kripta lze zakoupit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pycentru (suterén PE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Studijn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 materiál – specializační 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ní semest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eee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ecialist Englis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nit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eee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ecialist Englis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nit IV + VI (pro P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ecialist English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nit III + IV (pro F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eee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ecialist Englis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nit 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ro P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. Kučír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ecialist English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nit III +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lze zakoupit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opycentru (suterén PE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  <a:ea typeface="Arial"/>
              </a:rPr>
              <a:t>Zápočtový test</a:t>
            </a:r>
            <a:r>
              <a:rPr b="1" lang="fr-FR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ísemná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lednovém bloku (harmonogram dle úrovní naleznete na této stránce jakmile jej stanoví studijní odd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1 + A2 formou multiple choice (výběr ze 3 možnost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1 + B2 – různé formy a druhy cvič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est je zaměřen na gramatické jevy a slovní zásobu příslušných lekcí učebních materiál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est trvá cca 40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in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9:41:13Z</dcterms:created>
  <dc:creator>Salle Nobel</dc:creator>
  <dc:description/>
  <dc:language>en-US</dc:language>
  <cp:lastModifiedBy>a</cp:lastModifiedBy>
  <dcterms:modified xsi:type="dcterms:W3CDTF">2008-10-17T08:25:07Z</dcterms:modified>
  <cp:revision>10</cp:revision>
  <dc:subject/>
  <dc:title>Informace pro studenty kombinovaneho studia - AJ</dc:title>
</cp:coreProperties>
</file>