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208-93F9-4706-9909-8E4A4CEA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293-5870-48AF-AE7B-8BB08144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E7A-BC5B-451A-98E9-8FE9C860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34C-F89E-4424-8228-1DDF1578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D881-B9C0-4157-AF08-70E8FE22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A1CA-2349-463A-9346-6137B250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EE8C-A574-4556-A3C2-CC909334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E95C-D2DC-487D-A553-C740F3D6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790A-3038-4D59-A4E2-B57ABD1F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0E86-C702-4A70-9DAA-4EA63261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C2D5-2EE5-4EB4-A97A-81EE5318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CB0-79F8-44A9-8CBC-8ECFCAB4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3D06-7666-4ED1-BA33-4BE7C07F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9A50-F903-40FF-993C-05269EFE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8582-80AB-4E6A-86C0-8EBA7F72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4249-8EB7-486C-9220-4573CBEF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9C11-0C30-4111-83F5-A1B8884E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BA4-8A8B-4613-942E-7288C1D2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05B-5042-4963-B832-7148062E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4D6-F7DF-4425-8CFE-735F267D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4A0-F335-4C3C-9318-8005A701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5C9-4A8B-4B2A-84CF-100894E5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78C-097E-4690-8F15-5BFD5A26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59C-FA45-4583-840A-033B18CB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CDC3-4339-4CBA-AD87-99FE8F9C0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0B8B-2435-4818-851A-27B672261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vogeltanzova@pef.czu.cz" TargetMode="External"/><Relationship Id="rId2" Type="http://schemas.openxmlformats.org/officeDocument/2006/relationships/hyperlink" Target="mailto:vogeltanzova@pef.czu.cz" TargetMode="External"/><Relationship Id="rId3" Type="http://schemas.openxmlformats.org/officeDocument/2006/relationships/hyperlink" Target="mailto:vogeltanzova@pef.czu.cz" TargetMode="External"/><Relationship Id="rId4" Type="http://schemas.openxmlformats.org/officeDocument/2006/relationships/hyperlink" Target="mailto:vogeltanzova@pef.czu.cz" TargetMode="External"/><Relationship Id="rId5" Type="http://schemas.openxmlformats.org/officeDocument/2006/relationships/hyperlink" Target="mailto:vogeltanzova@pef.czu.cz" TargetMode="External"/><Relationship Id="rId6" Type="http://schemas.openxmlformats.org/officeDocument/2006/relationships/hyperlink" Target="mailto:vogeltanzova@pef.czu.cz" TargetMode="External"/><Relationship Id="rId7" Type="http://schemas.openxmlformats.org/officeDocument/2006/relationships/hyperlink" Target="mailto:vogeltanzova@pef.czu.cz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f.czu.cz/~vogeltanzova" TargetMode="External"/><Relationship Id="rId2" Type="http://schemas.openxmlformats.org/officeDocument/2006/relationships/hyperlink" Target="http://pef.czu.cz/~vogeltanzova" TargetMode="External"/><Relationship Id="rId3" Type="http://schemas.openxmlformats.org/officeDocument/2006/relationships/hyperlink" Target="http://pef.czu.cz/~vogeltanzova" TargetMode="External"/><Relationship Id="rId4" Type="http://schemas.openxmlformats.org/officeDocument/2006/relationships/hyperlink" Target="http://pef.czu.cz/~vogeltanzova" TargetMode="External"/><Relationship Id="rId5" Type="http://schemas.openxmlformats.org/officeDocument/2006/relationships/hyperlink" Target="http://pef.czu.cz/~vogeltanzova" TargetMode="External"/><Relationship Id="rId6" Type="http://schemas.openxmlformats.org/officeDocument/2006/relationships/hyperlink" Target="http://pef.czu.cz/~vogeltanzova" TargetMode="External"/><Relationship Id="rId7" Type="http://schemas.openxmlformats.org/officeDocument/2006/relationships/hyperlink" Target="http://pef.czu.cz/~vogeltanzova" TargetMode="External"/><Relationship Id="rId8" Type="http://schemas.openxmlformats.org/officeDocument/2006/relationships/hyperlink" Target="http://pef.czu.cz/~vogeltanzova" TargetMode="Externa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Informace pro studenty kombinovaneho studia AJ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EF, FLD, FŽ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20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r. Tereza Vogeltanz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  <a:ea typeface="Arial"/>
              </a:rPr>
              <a:t>Zápočtový t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zapomeňte, že od úrovně A2 je součástí testu kromě učebnice New Cutting Edge i specializační literatura (viz výš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zápočet 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70%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správných odpověd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!!!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hledem k tomu, že se jedná o test zápočtový, má student nárok na jeden termín řádný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de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pravný (nabídka opravných termínů bude k dispozici v Hrochu po termínu řádném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Děkuji za pozorno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Kontaktn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 informa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Kancelář EA 204 v budově ARIT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Konzultační hodiny – ZS 2008/2009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úterý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10:30 – 11:3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ed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13:00 – 14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o předchozí dohodě mailem možno i jind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e-mail: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"/>
              </a:rPr>
              <a:t>vogeltanzova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"/>
              </a:rPr>
              <a:t>@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3"/>
              </a:rPr>
              <a:t>pef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4"/>
              </a:rPr>
              <a:t>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5"/>
              </a:rPr>
              <a:t>czu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6"/>
              </a:rPr>
              <a:t>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7"/>
              </a:rPr>
              <a:t>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Webov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 str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n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"/>
              </a:rPr>
              <a:t>pef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3"/>
              </a:rPr>
              <a:t>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4"/>
              </a:rPr>
              <a:t>czu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5"/>
              </a:rPr>
              <a:t>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6"/>
              </a:rPr>
              <a:t>cz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7"/>
              </a:rPr>
              <a:t>/~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8"/>
              </a:rPr>
              <a:t>vogeltanzova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odkaz KOMBINOVANÉ STUDIUM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soustředě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všechny aktuální informa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ohledně výuky AJ v kombinované formě (včetně termínů testů, náhradních termínů, zápisu do indexu apod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Uznání předmětu Cizí jazy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zinárodní certifiká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átní jazyková zkouš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počet či zkouška z jiné V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znání provádí výhradně zástupkyně vedoucí katedr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hDr. Lenka Kučírková v konzultačních hodinách do konce lednového blok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Ú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4:15 – 15: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3:00 – 14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udete potřebovat předlož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žádost o uznání předmětu (formulář stud.od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pie certifikátu, vysvědčení ap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  <a:ea typeface="Arial"/>
              </a:rPr>
              <a:t>Studijní materiál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UTTING 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1 -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UTTING ED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2 - NEW CUTTING ED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intermed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 NEW CUTTING ED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 NEW CUTTING ED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-intermed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1428840" cy="2038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238880" y="4343400"/>
            <a:ext cx="1428840" cy="204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086600" y="1981080"/>
            <a:ext cx="1428840" cy="2038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5486400" y="4572000"/>
            <a:ext cx="14288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UTTING ED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Zimn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 semest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 – unit 1-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2 – unit 1-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– unit 1-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– unit 1-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ní semes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 – unit 7-1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2 – unit 7-1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– unit 7-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– unit 7-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Studijn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 materiál – specializační </a:t>
            </a:r>
            <a:br>
              <a:rPr sz="4400"/>
            </a:b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mní semest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eee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pecialist English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t I +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eee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pecialist English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t II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 P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pecialist English 4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t I + I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 F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eee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B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pecialist Englis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t V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 P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pecialist English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t I + I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 F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kripta lze zakoupit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opycentru (suterén PE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Studijn</a:t>
            </a:r>
            <a:r>
              <a:rPr b="0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 materiál – specializační 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ní semest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eee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pecialist Englis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nit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eee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pecialist Englis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nit IV + VI (pro P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pecialist English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nit III + IV (pro F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eee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pecialist Englis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nit V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pro P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pecialist English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nit III +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- lze zakoupit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opycentru (suterén PE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  <a:ea typeface="Arial"/>
              </a:rPr>
              <a:t>Zápočtový test</a:t>
            </a:r>
            <a:r>
              <a:rPr b="1" lang="fr-FR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ísemná 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lednovém bloku (harmonogram dle úrovní naleznete na této stránce jakmile jej stanoví studijní odd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1 + A2 formou multiple choice (výběr ze 3 možnost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1 + B2 – různé formy a druhy cvič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est je zaměřen na gramatické jevy a slovní zásobu příslušných lekcí učebních materiál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est trvá cca 40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in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9:41:13Z</dcterms:created>
  <dc:creator>Salle Nobel</dc:creator>
  <dc:description/>
  <dc:language>en-US</dc:language>
  <cp:lastModifiedBy>a</cp:lastModifiedBy>
  <dcterms:modified xsi:type="dcterms:W3CDTF">2008-10-17T08:25:07Z</dcterms:modified>
  <cp:revision>10</cp:revision>
  <dc:subject/>
  <dc:title>Informace pro studenty kombinovaneho studia - AJ</dc:title>
</cp:coreProperties>
</file>